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8.jpeg" ContentType="image/jpeg"/>
  <Override PartName="/ppt/media/image6.wmf" ContentType="image/x-wmf"/>
  <Override PartName="/ppt/media/image7.png" ContentType="image/png"/>
  <Override PartName="/ppt/media/image9.png" ContentType="image/png"/>
  <Override PartName="/ppt/media/image10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193A3-F2A0-4969-A7B3-0CDD8F9ADB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Номер слайда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BAF7C1-F6DC-48C1-8A2D-D2BD8D2D4854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AB3B-E14D-47E4-B11B-1F7892BF9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C73A-0CE6-44E0-8DD2-AE6417F9B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5992-77E2-444C-9DBE-FFBA14FB2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C488-F47F-4A4B-A717-D66C01730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FCF8-82C1-440D-B10D-222E09D9D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0319-67AF-490A-B5D8-5CAF735F5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48C5-1F10-447B-A5EE-3EFDECF26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FCDD-762C-4009-A69D-95D51703A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9C62-E996-498F-AFFC-C6F6F186F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0FC0-E73E-4AFD-BF3B-C51CE0E0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ED70-B62A-4B66-866B-060E7981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0D89-1555-40CC-B2B8-413C540A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92AF-E53F-4893-A70B-806F8C891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5.xml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5.xml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9280" y="692280"/>
            <a:ext cx="712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000000"/>
                </a:solidFill>
                <a:latin typeface="Times New Roman"/>
              </a:rPr>
              <a:t>С.Саттаров атындағы № 57 мектеп - лицейі</a:t>
            </a:r>
            <a:r>
              <a:rPr b="1" i="1" lang="kk-KZ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2492280"/>
            <a:ext cx="8497800" cy="36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 </a:t>
            </a:r>
            <a:r>
              <a:rPr b="1" i="1" lang="kk-KZ" sz="3200" spc="-1" strike="noStrike">
                <a:solidFill>
                  <a:srgbClr val="000000"/>
                </a:solidFill>
                <a:latin typeface="Times New Roman KK EK"/>
              </a:rPr>
              <a:t>Ашық саба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Times New Roman KK EK"/>
              </a:rPr>
              <a:t>Тақырыбы: Сөз таптары. Зат есі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Times New Roman KK EK"/>
              </a:rPr>
              <a:t>Өткізген: Медиева П.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                                             </a:t>
            </a: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Қарағанды – 2012 жы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236000" y="765000"/>
            <a:ext cx="1692000" cy="14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68360" y="836640"/>
            <a:ext cx="49496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ff3300"/>
                </a:solidFill>
                <a:latin typeface="Times New Roman"/>
              </a:rPr>
              <a:t>         </a:t>
            </a:r>
            <a:r>
              <a:rPr b="1" i="1" lang="kk-KZ" sz="3500" spc="-1" strike="noStrike">
                <a:solidFill>
                  <a:srgbClr val="ff3300"/>
                </a:solidFill>
                <a:latin typeface="Times New Roman"/>
              </a:rPr>
              <a:t>Оқулықпен жұмыс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2400" y="1700280"/>
            <a:ext cx="848196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000000"/>
                </a:solidFill>
                <a:latin typeface="Times New Roman KK EK"/>
              </a:rPr>
              <a:t>118- жаттығу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000000"/>
                </a:solidFill>
                <a:latin typeface="Times New Roman KK EK"/>
              </a:rPr>
              <a:t>Өздерің білетін жалқы есімдерді естеріңе түсіріп, дәптерлеріңе жазыңдар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000000"/>
                </a:solidFill>
                <a:latin typeface="Arial"/>
              </a:rPr>
              <a:t>Кісі аттары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:---------------------------------------------------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000000"/>
                </a:solidFill>
                <a:latin typeface="Arial"/>
              </a:rPr>
              <a:t>Мемлекет, республика, облыс, аудан, қала, ауыл атаулары: ------------------------------------------------------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000000"/>
                </a:solidFill>
                <a:latin typeface="Arial"/>
              </a:rPr>
              <a:t>Мекеме, зауыт, фабрика, ұжым атаулары: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 ------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000000"/>
                </a:solidFill>
                <a:latin typeface="Arial"/>
              </a:rPr>
              <a:t>4. Газет-журнал, кітап, ән, күй, шығарма: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 ------------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000000"/>
                </a:solidFill>
                <a:latin typeface="Arial"/>
              </a:rPr>
              <a:t>5. Жер, су атаулары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:----------------------------------------------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000000"/>
                </a:solidFill>
                <a:latin typeface="Arial"/>
              </a:rPr>
              <a:t>Жылқыға, сиырға, түйеге, итке қойылатын аттар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:--------------------------------------------------------------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7236000" y="765000"/>
            <a:ext cx="1692000" cy="14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00"/>
                </a:solidFill>
                <a:latin typeface="Arial"/>
              </a:rPr>
              <a:t>Шығармашылық жұмы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Біздің ауыл” тақырыбына шағы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әңгіме жаз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Жалқы есім мен жалпы есімдерді                            қатыстыру, астын сыз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Талдау- табыс кілт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700" spc="-1" strike="noStrike">
                <a:solidFill>
                  <a:srgbClr val="000000"/>
                </a:solidFill>
                <a:latin typeface="Arial"/>
              </a:rPr>
              <a:t>Абайдың ұлағатты сөзін алып, талдау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700" spc="-1" strike="noStrike">
                <a:solidFill>
                  <a:srgbClr val="000000"/>
                </a:solidFill>
                <a:latin typeface="Arial"/>
              </a:rPr>
              <a:t>Адамның адамшылығы- ақыл, ғылым, жақсы ата, жақсы ана, жақсы құрбы, жақсы ұстаздан басталады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700" spc="-1" strike="noStrike">
                <a:solidFill>
                  <a:srgbClr val="000000"/>
                </a:solidFill>
                <a:latin typeface="Arial"/>
              </a:rPr>
              <a:t>Зат есім сөздерді табу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700" spc="-1" strike="noStrike">
                <a:solidFill>
                  <a:srgbClr val="000000"/>
                </a:solidFill>
                <a:latin typeface="Arial"/>
              </a:rPr>
              <a:t>Құрбы сөзіне сатылай- кешенді талдау жасау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700" spc="-1" strike="noStrike">
                <a:solidFill>
                  <a:srgbClr val="000000"/>
                </a:solidFill>
                <a:latin typeface="Arial"/>
              </a:rPr>
              <a:t>І топ- Құрбы сөзіне  Фонетикалық талдау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700" spc="-1" strike="noStrike">
                <a:solidFill>
                  <a:srgbClr val="000000"/>
                </a:solidFill>
                <a:latin typeface="Arial"/>
              </a:rPr>
              <a:t>ІІ топ- Құрбы сөзіне Фонологиялық талдау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Фонологиялық талда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57200" y="1600200"/>
            <a:ext cx="8228160" cy="4525200"/>
            <a:chOff x="457200" y="1600200"/>
            <a:chExt cx="8228160" cy="4525200"/>
          </a:xfrm>
        </p:grpSpPr>
        <p:cxnSp>
          <p:nvCxnSpPr>
            <p:cNvPr id="183" name="_s31759"/>
            <p:cNvCxnSpPr>
              <a:stCxn id="184" idx="1"/>
              <a:endCxn id="185" idx="2"/>
            </p:cNvCxnSpPr>
            <p:nvPr/>
          </p:nvCxnSpPr>
          <p:spPr>
            <a:xfrm rot="10800000">
              <a:off x="2925000" y="2245680"/>
              <a:ext cx="823320" cy="3556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6" name="_s31756"/>
            <p:cNvCxnSpPr>
              <a:stCxn id="187" idx="1"/>
              <a:endCxn id="185" idx="2"/>
            </p:cNvCxnSpPr>
            <p:nvPr/>
          </p:nvCxnSpPr>
          <p:spPr>
            <a:xfrm rot="10800000">
              <a:off x="2925000" y="2245680"/>
              <a:ext cx="823320" cy="2586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8" name="_s31755"/>
            <p:cNvCxnSpPr>
              <a:stCxn id="189" idx="1"/>
              <a:endCxn id="185" idx="2"/>
            </p:cNvCxnSpPr>
            <p:nvPr/>
          </p:nvCxnSpPr>
          <p:spPr>
            <a:xfrm rot="10800000">
              <a:off x="2925000" y="2245680"/>
              <a:ext cx="823320" cy="1616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0" name="_s31754"/>
            <p:cNvCxnSpPr>
              <a:stCxn id="191" idx="1"/>
              <a:endCxn id="185" idx="2"/>
            </p:cNvCxnSpPr>
            <p:nvPr/>
          </p:nvCxnSpPr>
          <p:spPr>
            <a:xfrm rot="10800000">
              <a:off x="2925000" y="2245680"/>
              <a:ext cx="823320" cy="646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5" name="_s31750"/>
            <p:cNvSpPr/>
            <p:nvPr/>
          </p:nvSpPr>
          <p:spPr>
            <a:xfrm>
              <a:off x="457200" y="1600200"/>
              <a:ext cx="4937040" cy="646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Ғылы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31751"/>
            <p:cNvSpPr/>
            <p:nvPr/>
          </p:nvSpPr>
          <p:spPr>
            <a:xfrm>
              <a:off x="3748320" y="2569680"/>
              <a:ext cx="4937040" cy="646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5 әріп, 5 дыбыс, екі буын ба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31752"/>
            <p:cNvSpPr/>
            <p:nvPr/>
          </p:nvSpPr>
          <p:spPr>
            <a:xfrm>
              <a:off x="3748320" y="3539520"/>
              <a:ext cx="4937040" cy="646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Ғы-лым  тасымалданад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31753"/>
            <p:cNvSpPr/>
            <p:nvPr/>
          </p:nvSpPr>
          <p:spPr>
            <a:xfrm>
              <a:off x="3748320" y="4509360"/>
              <a:ext cx="4937040" cy="646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ғы- ашық буын, лым- бітеу буы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31758"/>
            <p:cNvSpPr/>
            <p:nvPr/>
          </p:nvSpPr>
          <p:spPr>
            <a:xfrm>
              <a:off x="3748320" y="5479200"/>
              <a:ext cx="4937040" cy="646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Екпін соңғы буынға түсіп тұ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70632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Өздерің білетін жалпы және жалқы есімдерді жазыңд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95280" y="1397160"/>
          <a:ext cx="8137440" cy="4651200"/>
        </p:xfrm>
        <a:graphic>
          <a:graphicData uri="http://schemas.openxmlformats.org/drawingml/2006/table">
            <a:tbl>
              <a:tblPr/>
              <a:tblGrid>
                <a:gridCol w="4068720"/>
                <a:gridCol w="4068720"/>
              </a:tblGrid>
              <a:tr h="48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Жалпы есімд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5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Жалқы есімдер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52280" y="-360"/>
            <a:ext cx="8839440" cy="670572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Arial"/>
              </a:rPr>
              <a:t>ОЙ ҚОЗҒАУ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Географиялық атау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Күнделікті тұрмысқа байланысты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Өлең атауы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Ән атауы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Қоғамдық өмірге байланысты атау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Кісі атауы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505320"/>
            <a:ext cx="198144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Өнеркәсі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133720" y="54100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0" y="4572000"/>
            <a:ext cx="205740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Сарыжайла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781680" y="1295280"/>
            <a:ext cx="2057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Сегізая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781680" y="304920"/>
            <a:ext cx="2057400" cy="761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Отаға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781680" y="2514600"/>
            <a:ext cx="205740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Заттыб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934320" y="5715000"/>
            <a:ext cx="205740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Қызылор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2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2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20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2000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2000"/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2000"/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13"/>
          <p:cNvSpPr/>
          <p:nvPr/>
        </p:nvSpPr>
        <p:spPr>
          <a:xfrm>
            <a:off x="684360" y="2205000"/>
            <a:ext cx="820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000000"/>
                </a:solidFill>
                <a:latin typeface="Courier New"/>
              </a:rPr>
              <a:t>Сабақты бекіт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>
            <a:hlinkClick r:id="rId2" action="ppaction://hlinksldjump"/>
          </p:cNvPr>
          <p:cNvSpPr/>
          <p:nvPr/>
        </p:nvSpPr>
        <p:spPr>
          <a:xfrm>
            <a:off x="7885080" y="5373720"/>
            <a:ext cx="576360" cy="7207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flipH="1" rot="10735800">
            <a:off x="0" y="4005000"/>
            <a:ext cx="2633760" cy="28522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flipH="1" rot="21562800">
            <a:off x="6509880" y="-360"/>
            <a:ext cx="26337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47280" y="404280"/>
            <a:ext cx="6409080" cy="576360"/>
          </a:xfrm>
          <a:prstGeom prst="rect">
            <a:avLst/>
          </a:prstGeom>
          <a:solidFill>
            <a:srgbClr val="cc00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Arial"/>
              </a:rPr>
              <a:t>Семантикалық карта толты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8120" y="-880560"/>
            <a:ext cx="4923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  </a:t>
            </a:r>
            <a:r>
              <a:rPr b="1" i="1" lang="kk-KZ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Семантикалық карта толтыру /оқушылардың бәріне таратылады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539640" y="1197000"/>
          <a:ext cx="8280360" cy="5340240"/>
        </p:xfrm>
        <a:graphic>
          <a:graphicData uri="http://schemas.openxmlformats.org/drawingml/2006/table">
            <a:tbl>
              <a:tblPr/>
              <a:tblGrid>
                <a:gridCol w="484200"/>
                <a:gridCol w="1820880"/>
                <a:gridCol w="1290600"/>
                <a:gridCol w="1287720"/>
                <a:gridCol w="1823760"/>
                <a:gridCol w="1573200"/>
              </a:tblGrid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№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Мысалда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Жалпы есі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Жалқы есі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Деректі зат есі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Дерексіз зат есі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Әк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Мұхтар Әуез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3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Құлаге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4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Қайғ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5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Достық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6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Домбыр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7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Саудаге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8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Өне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9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Қарағанд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Жігітте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Қызылордалық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Дәріхан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Әке-шеш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Арман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Шекараш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0" y="778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56840" y="1142640"/>
            <a:ext cx="847260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14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kk-KZ" sz="5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т есім дегеніміз не?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Заголовок 2" descr=""/>
          <p:cNvPicPr/>
          <p:nvPr/>
        </p:nvPicPr>
        <p:blipFill>
          <a:blip r:embed="rId2"/>
          <a:stretch/>
        </p:blipFill>
        <p:spPr>
          <a:xfrm>
            <a:off x="493560" y="384120"/>
            <a:ext cx="8242560" cy="1347840"/>
          </a:xfrm>
          <a:prstGeom prst="rect">
            <a:avLst/>
          </a:prstGeom>
          <a:ln w="0">
            <a:noFill/>
          </a:ln>
        </p:spPr>
      </p:pic>
      <p:pic>
        <p:nvPicPr>
          <p:cNvPr id="212" name="Рисунок 1" descr="C:\Documents and Settings\5 школа\Мои документы\Прочее\перо\2008-09 (сен)\сканирование0002.jpg"/>
          <p:cNvPicPr/>
          <p:nvPr/>
        </p:nvPicPr>
        <p:blipFill>
          <a:blip r:embed="rId3"/>
          <a:stretch/>
        </p:blipFill>
        <p:spPr>
          <a:xfrm>
            <a:off x="4478400" y="2782800"/>
            <a:ext cx="3678120" cy="33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Жалқы және жалпы есімдерге 6 сөйлем құрастыру</a:t>
            </a:r>
            <a:r>
              <a:rPr b="0" lang="kk-KZ" sz="43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.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00"/>
                </a:solidFill>
                <a:latin typeface="Arial"/>
              </a:rPr>
              <a:t>2. Зат есім туралы оқ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00"/>
                </a:solidFill>
                <a:latin typeface="Arial"/>
              </a:rPr>
              <a:t>3. «Зат есім» тақырыбына сөз жұмбақ, ребустар құрастырып әке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Заголовок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Blue_book"/>
          <p:cNvPicPr/>
          <p:nvPr/>
        </p:nvPicPr>
        <p:blipFill>
          <a:blip r:embed="rId3"/>
          <a:stretch/>
        </p:blipFill>
        <p:spPr>
          <a:xfrm>
            <a:off x="4356000" y="3357720"/>
            <a:ext cx="4071960" cy="32907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9280" y="1773360"/>
            <a:ext cx="712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ff3300"/>
                </a:solidFill>
                <a:latin typeface="Times New Roman"/>
              </a:rPr>
              <a:t>Сабақтың тақырыбы:</a:t>
            </a:r>
            <a:r>
              <a:rPr b="1" i="1" lang="kk-KZ" sz="2500" spc="-1" strike="noStrike">
                <a:solidFill>
                  <a:srgbClr val="000000"/>
                </a:solidFill>
                <a:latin typeface="Times New Roman"/>
              </a:rPr>
              <a:t> Сөз таптары.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kk-KZ" sz="2500" spc="-1" strike="noStrike">
                <a:solidFill>
                  <a:srgbClr val="000000"/>
                </a:solidFill>
                <a:latin typeface="Times New Roman"/>
              </a:rPr>
              <a:t>Зат есім.</a:t>
            </a:r>
            <a:r>
              <a:rPr b="1" i="1" lang="kk-KZ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2492280"/>
            <a:ext cx="8497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ff3300"/>
                </a:solidFill>
                <a:latin typeface="Times New Roman KK EK"/>
              </a:rPr>
              <a:t>Сабақтың мақсаты:</a:t>
            </a: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1. Оқушыларға сөз таптары, оның ішінде зат есім, зат есімнің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жалпы есім, жалқы есім түрлері туралы тереңірек білім беру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2. Сөз таптары бойынша меңгерген білімдеріне сүйене отырып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 </a:t>
            </a: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зат есім туралы түсініктерін дамыту, сауатты жазу, оқу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дағдыларын жетілдіру, оқушылардың белсенді ойлау қызметтерін жандандыру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3. Қазақ тілінің морфологиялық заңдылықтарын түсіндіре отырып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 </a:t>
            </a: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тілдік- эстетикалық сезімдерге тәрбиелеу, адамгершілік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қасиеттерді бойларына датыру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411280" y="620640"/>
            <a:ext cx="3961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3300"/>
                </a:solidFill>
                <a:latin typeface="Times New Roman KK EK"/>
              </a:rPr>
              <a:t>Қазақ тілі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3300"/>
              </a:solidFill>
              <a:latin typeface="Times New Roman KK EK"/>
              <a:ea typeface="Times New Roman KK EK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236000" y="765000"/>
            <a:ext cx="1692000" cy="14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116000" y="2349360"/>
            <a:ext cx="770400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urier New"/>
              </a:rPr>
              <a:t>Оқушыларды  бағалау</a:t>
            </a:r>
            <a:endParaRPr b="1" i="1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217" name=""/>
          <p:cNvSpPr txBox="1"/>
          <p:nvPr/>
        </p:nvSpPr>
        <p:spPr>
          <a:xfrm rot="20766600">
            <a:off x="1476360" y="691920"/>
            <a:ext cx="2081160" cy="153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5"</a:t>
            </a:r>
            <a:endParaRPr b="0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932360" y="692280"/>
            <a:ext cx="158436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33cc"/>
                  </a:solidFill>
                  <a:miter/>
                </a:ln>
                <a:solidFill>
                  <a:srgbClr val="0033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4"</a:t>
            </a:r>
            <a:endParaRPr b="0" i="1" lang="en-US" sz="1800" spc="1" strike="noStrike">
              <a:ln w="9360">
                <a:solidFill>
                  <a:srgbClr val="0033cc"/>
                </a:solidFill>
                <a:miter/>
              </a:ln>
              <a:solidFill>
                <a:srgbClr val="0033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692360" y="4724280"/>
            <a:ext cx="165744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8000"/>
                  </a:solidFill>
                  <a:miter/>
                </a:ln>
                <a:solidFill>
                  <a:srgbClr val="8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3"</a:t>
            </a:r>
            <a:endParaRPr b="0" i="1" lang="en-US" sz="1800" spc="1" strike="noStrike">
              <a:ln w="9360">
                <a:solidFill>
                  <a:srgbClr val="808000"/>
                </a:solidFill>
                <a:miter/>
              </a:ln>
              <a:solidFill>
                <a:srgbClr val="8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0" name=""/>
          <p:cNvSpPr txBox="1"/>
          <p:nvPr/>
        </p:nvSpPr>
        <p:spPr>
          <a:xfrm rot="20431200">
            <a:off x="6300720" y="4581360"/>
            <a:ext cx="1366920" cy="138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2"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Box 13"/>
          <p:cNvSpPr/>
          <p:nvPr/>
        </p:nvSpPr>
        <p:spPr>
          <a:xfrm>
            <a:off x="684360" y="1916280"/>
            <a:ext cx="820872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33cc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500" spc="-1" strike="noStrike">
                <a:solidFill>
                  <a:srgbClr val="0033cc"/>
                </a:solidFill>
                <a:latin typeface="Courier New"/>
              </a:rPr>
              <a:t>Назарларыңызға рахме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>
            <a:hlinkClick r:id="rId2" action="ppaction://hlinksldjump"/>
          </p:cNvPr>
          <p:cNvSpPr/>
          <p:nvPr/>
        </p:nvSpPr>
        <p:spPr>
          <a:xfrm>
            <a:off x="7885080" y="5373720"/>
            <a:ext cx="576360" cy="7207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 flipH="1" rot="10735800">
            <a:off x="0" y="4005000"/>
            <a:ext cx="2633760" cy="28522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 flipH="1" rot="21562800">
            <a:off x="6509880" y="-360"/>
            <a:ext cx="26337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8435880" cy="4319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00"/>
                </a:solidFill>
                <a:latin typeface="Arial"/>
              </a:rPr>
              <a:t>Сөздердің білдіретін мағынасын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00"/>
                </a:solidFill>
                <a:latin typeface="Arial"/>
              </a:rPr>
              <a:t>түрлену тұлғасына, қойылаты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00"/>
                </a:solidFill>
                <a:latin typeface="Arial"/>
              </a:rPr>
              <a:t>сұрағына, сөйлемде атқараты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00"/>
                </a:solidFill>
                <a:latin typeface="Arial"/>
              </a:rPr>
              <a:t>қызметіне қарай топталуын </a:t>
            </a:r>
            <a:r>
              <a:rPr b="1" lang="kk-KZ" sz="3600" spc="-1" strike="noStrike">
                <a:solidFill>
                  <a:srgbClr val="ff0000"/>
                </a:solidFill>
                <a:latin typeface="Arial"/>
              </a:rPr>
              <a:t>сөз таптары</a:t>
            </a:r>
            <a:r>
              <a:rPr b="1" lang="kk-KZ" sz="3600" spc="-1" strike="noStrike">
                <a:solidFill>
                  <a:srgbClr val="000000"/>
                </a:solidFill>
                <a:latin typeface="Arial"/>
              </a:rPr>
              <a:t> дейміз</a:t>
            </a:r>
            <a:r>
              <a:rPr b="1" lang="kk-KZ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430200" y="1149480"/>
            <a:ext cx="8209080" cy="5256720"/>
            <a:chOff x="430200" y="1149480"/>
            <a:chExt cx="8209080" cy="5256720"/>
          </a:xfrm>
        </p:grpSpPr>
        <p:cxnSp>
          <p:nvCxnSpPr>
            <p:cNvPr id="57" name="_s45098"/>
            <p:cNvCxnSpPr>
              <a:stCxn id="58" idx="0"/>
              <a:endCxn id="59" idx="2"/>
            </p:cNvCxnSpPr>
            <p:nvPr/>
          </p:nvCxnSpPr>
          <p:spPr>
            <a:xfrm flipV="1">
              <a:off x="6166080" y="5041440"/>
              <a:ext cx="7200" cy="213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_s45096"/>
            <p:cNvCxnSpPr>
              <a:stCxn id="61" idx="0"/>
              <a:endCxn id="59" idx="2"/>
            </p:cNvCxnSpPr>
            <p:nvPr/>
          </p:nvCxnSpPr>
          <p:spPr>
            <a:xfrm flipV="1">
              <a:off x="6166080" y="5041440"/>
              <a:ext cx="7200" cy="185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" name="_s45094"/>
            <p:cNvCxnSpPr>
              <a:stCxn id="63" idx="0"/>
              <a:endCxn id="64" idx="2"/>
            </p:cNvCxnSpPr>
            <p:nvPr/>
          </p:nvCxnSpPr>
          <p:spPr>
            <a:xfrm flipV="1">
              <a:off x="6166080" y="5628960"/>
              <a:ext cx="7200" cy="218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5" name="_s45090"/>
            <p:cNvCxnSpPr>
              <a:stCxn id="66" idx="1"/>
              <a:endCxn id="67" idx="2"/>
            </p:cNvCxnSpPr>
            <p:nvPr/>
          </p:nvCxnSpPr>
          <p:spPr>
            <a:xfrm flipH="1" flipV="1" rot="10800000">
              <a:off x="3692520" y="6018840"/>
              <a:ext cx="2473920" cy="196200"/>
            </a:xfrm>
            <a:prstGeom prst="bentConnector4">
              <a:avLst>
                <a:gd name="adj1" fmla="val -4628"/>
                <a:gd name="adj2" fmla="val 1977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8" name="_s45088"/>
            <p:cNvCxnSpPr>
              <a:stCxn id="67" idx="1"/>
              <a:endCxn id="69" idx="2"/>
            </p:cNvCxnSpPr>
            <p:nvPr/>
          </p:nvCxnSpPr>
          <p:spPr>
            <a:xfrm flipH="1" flipV="1" rot="10800000">
              <a:off x="3692520" y="6018840"/>
              <a:ext cx="2473920" cy="196200"/>
            </a:xfrm>
            <a:prstGeom prst="bentConnector4">
              <a:avLst>
                <a:gd name="adj1" fmla="val -4628"/>
                <a:gd name="adj2" fmla="val 1977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45086"/>
            <p:cNvCxnSpPr>
              <a:stCxn id="69" idx="1"/>
              <a:endCxn id="71" idx="2"/>
            </p:cNvCxnSpPr>
            <p:nvPr/>
          </p:nvCxnSpPr>
          <p:spPr>
            <a:xfrm flipH="1" flipV="1" rot="10800000">
              <a:off x="3692520" y="6018840"/>
              <a:ext cx="2473920" cy="196200"/>
            </a:xfrm>
            <a:prstGeom prst="bentConnector4">
              <a:avLst>
                <a:gd name="adj1" fmla="val -4628"/>
                <a:gd name="adj2" fmla="val 1977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45084"/>
            <p:cNvCxnSpPr>
              <a:stCxn id="73" idx="1"/>
              <a:endCxn id="71" idx="2"/>
            </p:cNvCxnSpPr>
            <p:nvPr/>
          </p:nvCxnSpPr>
          <p:spPr>
            <a:xfrm flipH="1" flipV="1" rot="10800000">
              <a:off x="3692520" y="6018840"/>
              <a:ext cx="2473920" cy="196200"/>
            </a:xfrm>
            <a:prstGeom prst="bentConnector4">
              <a:avLst>
                <a:gd name="adj1" fmla="val -4628"/>
                <a:gd name="adj2" fmla="val 1977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4" name="_s45082"/>
            <p:cNvCxnSpPr>
              <a:stCxn id="71" idx="1"/>
              <a:endCxn id="75" idx="2"/>
            </p:cNvCxnSpPr>
            <p:nvPr/>
          </p:nvCxnSpPr>
          <p:spPr>
            <a:xfrm flipH="1" flipV="1" rot="10800000">
              <a:off x="3692520" y="6018840"/>
              <a:ext cx="2473920" cy="186840"/>
            </a:xfrm>
            <a:prstGeom prst="bentConnector4">
              <a:avLst>
                <a:gd name="adj1" fmla="val -4628"/>
                <a:gd name="adj2" fmla="val 20772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6" name="_s45080"/>
            <p:cNvCxnSpPr>
              <a:stCxn id="75" idx="0"/>
              <a:endCxn id="64" idx="2"/>
            </p:cNvCxnSpPr>
            <p:nvPr/>
          </p:nvCxnSpPr>
          <p:spPr>
            <a:xfrm flipV="1">
              <a:off x="6166080" y="5628600"/>
              <a:ext cx="7200" cy="186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7" name="_s45060"/>
            <p:cNvCxnSpPr/>
            <p:nvPr/>
          </p:nvCxnSpPr>
          <p:spPr>
            <a:xfrm rot="10800000">
              <a:off x="3468960" y="1536480"/>
              <a:ext cx="207000" cy="4504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8" name="_s45061"/>
            <p:cNvCxnSpPr>
              <a:stCxn id="64" idx="1"/>
              <a:endCxn id="79" idx="2"/>
            </p:cNvCxnSpPr>
            <p:nvPr/>
          </p:nvCxnSpPr>
          <p:spPr>
            <a:xfrm rot="10800000">
              <a:off x="3520800" y="1541160"/>
              <a:ext cx="172080" cy="389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0" name="_s45062"/>
            <p:cNvCxnSpPr>
              <a:stCxn id="59" idx="1"/>
              <a:endCxn id="79" idx="2"/>
            </p:cNvCxnSpPr>
            <p:nvPr/>
          </p:nvCxnSpPr>
          <p:spPr>
            <a:xfrm rot="10800000">
              <a:off x="3520800" y="1540440"/>
              <a:ext cx="172080" cy="3305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1" name="_s45063"/>
            <p:cNvCxnSpPr>
              <a:stCxn id="82" idx="1"/>
              <a:endCxn id="79" idx="2"/>
            </p:cNvCxnSpPr>
            <p:nvPr/>
          </p:nvCxnSpPr>
          <p:spPr>
            <a:xfrm rot="10800000">
              <a:off x="3520800" y="1540440"/>
              <a:ext cx="172080" cy="2719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3" name="_s45064"/>
            <p:cNvCxnSpPr/>
            <p:nvPr/>
          </p:nvCxnSpPr>
          <p:spPr>
            <a:xfrm rot="10800000">
              <a:off x="3468960" y="1536480"/>
              <a:ext cx="207000" cy="2154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4" name="_s45065"/>
            <p:cNvCxnSpPr>
              <a:stCxn id="85" idx="1"/>
              <a:endCxn id="79" idx="2"/>
            </p:cNvCxnSpPr>
            <p:nvPr/>
          </p:nvCxnSpPr>
          <p:spPr>
            <a:xfrm rot="10800000">
              <a:off x="3520800" y="1540440"/>
              <a:ext cx="172080" cy="1542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6" name="_s45066"/>
            <p:cNvCxnSpPr/>
            <p:nvPr/>
          </p:nvCxnSpPr>
          <p:spPr>
            <a:xfrm rot="10800000">
              <a:off x="3468960" y="1536480"/>
              <a:ext cx="207000" cy="979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" name="_s45067"/>
            <p:cNvCxnSpPr>
              <a:stCxn id="88" idx="1"/>
              <a:endCxn id="79" idx="2"/>
            </p:cNvCxnSpPr>
            <p:nvPr/>
          </p:nvCxnSpPr>
          <p:spPr>
            <a:xfrm rot="10800000">
              <a:off x="3520800" y="1541160"/>
              <a:ext cx="172080" cy="367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9" name="_s45068"/>
            <p:cNvSpPr/>
            <p:nvPr/>
          </p:nvSpPr>
          <p:spPr>
            <a:xfrm>
              <a:off x="430200" y="1149480"/>
              <a:ext cx="6182640" cy="39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700" spc="-1" strike="noStrike">
                  <a:solidFill>
                    <a:srgbClr val="000000"/>
                  </a:solidFill>
                  <a:latin typeface="Arial"/>
                </a:rPr>
                <a:t>Зат есім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45069"/>
            <p:cNvSpPr/>
            <p:nvPr/>
          </p:nvSpPr>
          <p:spPr>
            <a:xfrm>
              <a:off x="3692880" y="1712520"/>
              <a:ext cx="4946400" cy="39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700" spc="-1" strike="noStrike">
                  <a:solidFill>
                    <a:srgbClr val="000000"/>
                  </a:solidFill>
                  <a:latin typeface="Arial"/>
                </a:rPr>
                <a:t>Сын есім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45070"/>
            <p:cNvSpPr/>
            <p:nvPr/>
          </p:nvSpPr>
          <p:spPr>
            <a:xfrm>
              <a:off x="3692880" y="2300040"/>
              <a:ext cx="4946400" cy="39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700" spc="-1" strike="noStrike">
                  <a:solidFill>
                    <a:srgbClr val="000000"/>
                  </a:solidFill>
                  <a:latin typeface="Arial"/>
                </a:rPr>
                <a:t>Сан есім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45071"/>
            <p:cNvSpPr/>
            <p:nvPr/>
          </p:nvSpPr>
          <p:spPr>
            <a:xfrm>
              <a:off x="3692880" y="2887560"/>
              <a:ext cx="4946400" cy="39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kk-KZ" sz="2700" spc="-1" strike="noStrike">
                  <a:solidFill>
                    <a:srgbClr val="000000"/>
                  </a:solidFill>
                  <a:latin typeface="Arial"/>
                </a:rPr>
                <a:t>Есімдік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45072"/>
            <p:cNvSpPr/>
            <p:nvPr/>
          </p:nvSpPr>
          <p:spPr>
            <a:xfrm>
              <a:off x="3692880" y="3475080"/>
              <a:ext cx="4946400" cy="39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700" spc="-1" strike="noStrike">
                  <a:solidFill>
                    <a:srgbClr val="000000"/>
                  </a:solidFill>
                  <a:latin typeface="Arial"/>
                </a:rPr>
                <a:t>Етістік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45073"/>
            <p:cNvSpPr/>
            <p:nvPr/>
          </p:nvSpPr>
          <p:spPr>
            <a:xfrm>
              <a:off x="3692880" y="4062600"/>
              <a:ext cx="4946400" cy="39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700" spc="-1" strike="noStrike">
                  <a:solidFill>
                    <a:srgbClr val="000000"/>
                  </a:solidFill>
                  <a:latin typeface="Arial"/>
                </a:rPr>
                <a:t>Үстеу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45074"/>
            <p:cNvSpPr/>
            <p:nvPr/>
          </p:nvSpPr>
          <p:spPr>
            <a:xfrm>
              <a:off x="3692880" y="4650120"/>
              <a:ext cx="4946400" cy="39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700" spc="-1" strike="noStrike">
                  <a:solidFill>
                    <a:srgbClr val="000000"/>
                  </a:solidFill>
                  <a:latin typeface="Arial"/>
                </a:rPr>
                <a:t>Еліктеу сөздер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45075"/>
            <p:cNvSpPr/>
            <p:nvPr/>
          </p:nvSpPr>
          <p:spPr>
            <a:xfrm>
              <a:off x="3692880" y="5237640"/>
              <a:ext cx="4946400" cy="39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700" spc="-1" strike="noStrike">
                  <a:solidFill>
                    <a:srgbClr val="000000"/>
                  </a:solidFill>
                  <a:latin typeface="Arial"/>
                </a:rPr>
                <a:t>Еліктеу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45076"/>
            <p:cNvSpPr/>
            <p:nvPr/>
          </p:nvSpPr>
          <p:spPr>
            <a:xfrm>
              <a:off x="3692880" y="5825160"/>
              <a:ext cx="4946400" cy="390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700" spc="-1" strike="noStrike">
                  <a:solidFill>
                    <a:srgbClr val="000000"/>
                  </a:solidFill>
                  <a:latin typeface="Arial"/>
                </a:rPr>
                <a:t>Шылау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45079"/>
            <p:cNvSpPr/>
            <p:nvPr/>
          </p:nvSpPr>
          <p:spPr>
            <a:xfrm>
              <a:off x="3692880" y="5815800"/>
              <a:ext cx="4946400" cy="390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45081"/>
            <p:cNvSpPr/>
            <p:nvPr/>
          </p:nvSpPr>
          <p:spPr>
            <a:xfrm>
              <a:off x="3692880" y="5825160"/>
              <a:ext cx="4946400" cy="390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45083"/>
            <p:cNvSpPr/>
            <p:nvPr/>
          </p:nvSpPr>
          <p:spPr>
            <a:xfrm>
              <a:off x="3692880" y="5825160"/>
              <a:ext cx="4946400" cy="390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45085"/>
            <p:cNvSpPr/>
            <p:nvPr/>
          </p:nvSpPr>
          <p:spPr>
            <a:xfrm>
              <a:off x="3692880" y="5825160"/>
              <a:ext cx="4946400" cy="390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45087"/>
            <p:cNvSpPr/>
            <p:nvPr/>
          </p:nvSpPr>
          <p:spPr>
            <a:xfrm>
              <a:off x="3692880" y="5825160"/>
              <a:ext cx="4946400" cy="390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45089"/>
            <p:cNvSpPr/>
            <p:nvPr/>
          </p:nvSpPr>
          <p:spPr>
            <a:xfrm>
              <a:off x="3692880" y="5825160"/>
              <a:ext cx="4946400" cy="390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000" spc="-1" strike="noStrike">
                  <a:solidFill>
                    <a:srgbClr val="000000"/>
                  </a:solidFill>
                  <a:latin typeface="Arial"/>
                </a:rPr>
                <a:t>тьтьть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45093"/>
            <p:cNvSpPr/>
            <p:nvPr/>
          </p:nvSpPr>
          <p:spPr>
            <a:xfrm>
              <a:off x="3692880" y="5847120"/>
              <a:ext cx="4946400" cy="389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800" spc="-1" strike="noStrike">
                  <a:solidFill>
                    <a:srgbClr val="000000"/>
                  </a:solidFill>
                  <a:latin typeface="Arial"/>
                </a:rPr>
                <a:t>Одаға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45095"/>
            <p:cNvSpPr/>
            <p:nvPr/>
          </p:nvSpPr>
          <p:spPr>
            <a:xfrm>
              <a:off x="3692880" y="5226840"/>
              <a:ext cx="4946400" cy="39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45097"/>
            <p:cNvSpPr/>
            <p:nvPr/>
          </p:nvSpPr>
          <p:spPr>
            <a:xfrm>
              <a:off x="3692880" y="5255280"/>
              <a:ext cx="4946400" cy="393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800" spc="-1" strike="noStrike">
                  <a:solidFill>
                    <a:srgbClr val="000000"/>
                  </a:solidFill>
                  <a:latin typeface="Arial"/>
                </a:rPr>
                <a:t>Шыла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5763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Сөз тапта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5763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00000"/>
                </a:solidFill>
                <a:latin typeface="Arial"/>
              </a:rPr>
              <a:t>Зат есі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457200" y="1125360"/>
            <a:ext cx="8228880" cy="5000040"/>
            <a:chOff x="457200" y="1125360"/>
            <a:chExt cx="8228880" cy="5000040"/>
          </a:xfrm>
        </p:grpSpPr>
        <p:cxnSp>
          <p:nvCxnSpPr>
            <p:cNvPr id="95" name="_s23580"/>
            <p:cNvCxnSpPr>
              <a:stCxn id="96" idx="1"/>
              <a:endCxn id="97" idx="2"/>
            </p:cNvCxnSpPr>
            <p:nvPr/>
          </p:nvCxnSpPr>
          <p:spPr>
            <a:xfrm rot="10800000">
              <a:off x="1827720" y="4761000"/>
              <a:ext cx="457560" cy="909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8" name="_s23578"/>
            <p:cNvCxnSpPr>
              <a:stCxn id="99" idx="1"/>
              <a:endCxn id="100" idx="2"/>
            </p:cNvCxnSpPr>
            <p:nvPr/>
          </p:nvCxnSpPr>
          <p:spPr>
            <a:xfrm rot="10800000">
              <a:off x="5485320" y="4761000"/>
              <a:ext cx="457560" cy="909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1" name="_s23569"/>
            <p:cNvCxnSpPr>
              <a:stCxn id="100" idx="0"/>
              <a:endCxn id="102" idx="2"/>
            </p:cNvCxnSpPr>
            <p:nvPr/>
          </p:nvCxnSpPr>
          <p:spPr>
            <a:xfrm flipV="1">
              <a:off x="5485680" y="3397680"/>
              <a:ext cx="3240" cy="455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3" name="_s23567"/>
            <p:cNvCxnSpPr>
              <a:stCxn id="97" idx="0"/>
              <a:endCxn id="104" idx="2"/>
            </p:cNvCxnSpPr>
            <p:nvPr/>
          </p:nvCxnSpPr>
          <p:spPr>
            <a:xfrm flipV="1">
              <a:off x="1828080" y="3397680"/>
              <a:ext cx="3240" cy="455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23563"/>
            <p:cNvCxnSpPr>
              <a:stCxn id="102" idx="0"/>
              <a:endCxn id="106" idx="2"/>
            </p:cNvCxnSpPr>
            <p:nvPr/>
          </p:nvCxnSpPr>
          <p:spPr>
            <a:xfrm flipV="1" rot="16200000">
              <a:off x="4343760" y="1346760"/>
              <a:ext cx="455040" cy="1829160"/>
            </a:xfrm>
            <a:prstGeom prst="bentConnector3">
              <a:avLst>
                <a:gd name="adj1" fmla="val 2509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7" name="_s23562"/>
            <p:cNvCxnSpPr>
              <a:stCxn id="104" idx="0"/>
              <a:endCxn id="106" idx="2"/>
            </p:cNvCxnSpPr>
            <p:nvPr/>
          </p:nvCxnSpPr>
          <p:spPr>
            <a:xfrm flipH="1" flipV="1" rot="5400000">
              <a:off x="2514960" y="1346760"/>
              <a:ext cx="455040" cy="1829160"/>
            </a:xfrm>
            <a:prstGeom prst="bentConnector3">
              <a:avLst>
                <a:gd name="adj1" fmla="val 2509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6" name="_s23558"/>
            <p:cNvSpPr/>
            <p:nvPr/>
          </p:nvSpPr>
          <p:spPr>
            <a:xfrm>
              <a:off x="2285640" y="1125360"/>
              <a:ext cx="2742840" cy="909000"/>
            </a:xfrm>
            <a:prstGeom prst="roundRect">
              <a:avLst>
                <a:gd name="adj" fmla="val 16667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Құрамына қара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23559"/>
            <p:cNvSpPr/>
            <p:nvPr/>
          </p:nvSpPr>
          <p:spPr>
            <a:xfrm>
              <a:off x="457200" y="2489040"/>
              <a:ext cx="2742840" cy="909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Дара зат есі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23560"/>
            <p:cNvSpPr/>
            <p:nvPr/>
          </p:nvSpPr>
          <p:spPr>
            <a:xfrm>
              <a:off x="4114440" y="2489040"/>
              <a:ext cx="2742840" cy="909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Күрделі зат есі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23566"/>
            <p:cNvSpPr/>
            <p:nvPr/>
          </p:nvSpPr>
          <p:spPr>
            <a:xfrm>
              <a:off x="457200" y="3852720"/>
              <a:ext cx="2742840" cy="9090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ff00"/>
                  </a:solidFill>
                  <a:latin typeface="Arial"/>
                </a:rPr>
                <a:t>Бір ғана түбірден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ff00"/>
                  </a:solidFill>
                  <a:latin typeface="Arial"/>
                </a:rPr>
                <a:t>тұрад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23568"/>
            <p:cNvSpPr/>
            <p:nvPr/>
          </p:nvSpPr>
          <p:spPr>
            <a:xfrm>
              <a:off x="4114440" y="3852720"/>
              <a:ext cx="2742840" cy="9090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ff00"/>
                  </a:solidFill>
                  <a:latin typeface="Arial"/>
                </a:rPr>
                <a:t>Кемінде екі сөзде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r>
                <a:rPr b="0" lang="kk-KZ" sz="1600" spc="-1" strike="noStrike">
                  <a:solidFill>
                    <a:srgbClr val="00ff00"/>
                  </a:solidFill>
                  <a:latin typeface="Arial"/>
                </a:rPr>
                <a:t>тіркесу арқылы жасалад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23577"/>
            <p:cNvSpPr/>
            <p:nvPr/>
          </p:nvSpPr>
          <p:spPr>
            <a:xfrm>
              <a:off x="5943240" y="5216400"/>
              <a:ext cx="2742840" cy="90900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Мәдениет үйі, ата- ан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23579"/>
            <p:cNvSpPr/>
            <p:nvPr/>
          </p:nvSpPr>
          <p:spPr>
            <a:xfrm>
              <a:off x="2285640" y="5216400"/>
              <a:ext cx="2742840" cy="90900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От, ара, қант, оқуш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Зат есі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457200" y="1413000"/>
            <a:ext cx="8228520" cy="4712040"/>
            <a:chOff x="457200" y="1413000"/>
            <a:chExt cx="8228520" cy="4712040"/>
          </a:xfrm>
        </p:grpSpPr>
        <p:cxnSp>
          <p:nvCxnSpPr>
            <p:cNvPr id="110" name="_s25618"/>
            <p:cNvCxnSpPr>
              <a:stCxn id="111" idx="0"/>
              <a:endCxn id="112" idx="2"/>
            </p:cNvCxnSpPr>
            <p:nvPr/>
          </p:nvCxnSpPr>
          <p:spPr>
            <a:xfrm flipV="1">
              <a:off x="6786720" y="4357800"/>
              <a:ext cx="4680" cy="589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3" name="_s25616"/>
            <p:cNvCxnSpPr>
              <a:stCxn id="114" idx="0"/>
              <a:endCxn id="115" idx="2"/>
            </p:cNvCxnSpPr>
            <p:nvPr/>
          </p:nvCxnSpPr>
          <p:spPr>
            <a:xfrm flipV="1">
              <a:off x="2355480" y="4357800"/>
              <a:ext cx="4680" cy="589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6" name="_s25611"/>
            <p:cNvCxnSpPr>
              <a:stCxn id="112" idx="0"/>
              <a:endCxn id="117" idx="2"/>
            </p:cNvCxnSpPr>
            <p:nvPr/>
          </p:nvCxnSpPr>
          <p:spPr>
            <a:xfrm flipV="1" rot="16200000">
              <a:off x="5383800" y="1776960"/>
              <a:ext cx="589680" cy="2216160"/>
            </a:xfrm>
            <a:prstGeom prst="bentConnector3">
              <a:avLst>
                <a:gd name="adj1" fmla="val 202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8" name="_s25610"/>
            <p:cNvCxnSpPr>
              <a:stCxn id="115" idx="0"/>
              <a:endCxn id="117" idx="2"/>
            </p:cNvCxnSpPr>
            <p:nvPr/>
          </p:nvCxnSpPr>
          <p:spPr>
            <a:xfrm flipH="1" flipV="1" rot="5400000">
              <a:off x="3168360" y="1777680"/>
              <a:ext cx="589680" cy="2215440"/>
            </a:xfrm>
            <a:prstGeom prst="bentConnector3">
              <a:avLst>
                <a:gd name="adj1" fmla="val 202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7" name="_s25606"/>
            <p:cNvSpPr/>
            <p:nvPr/>
          </p:nvSpPr>
          <p:spPr>
            <a:xfrm>
              <a:off x="2671920" y="1413000"/>
              <a:ext cx="3797640" cy="11779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000000"/>
                  </a:solidFill>
                  <a:latin typeface="Arial"/>
                </a:rPr>
                <a:t>Жалпылай немесе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000000"/>
                  </a:solidFill>
                  <a:latin typeface="Arial"/>
                </a:rPr>
                <a:t>жекелей аталуына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000000"/>
                  </a:solidFill>
                  <a:latin typeface="Arial"/>
                </a:rPr>
                <a:t>қарай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25607"/>
            <p:cNvSpPr/>
            <p:nvPr/>
          </p:nvSpPr>
          <p:spPr>
            <a:xfrm>
              <a:off x="457200" y="3179880"/>
              <a:ext cx="3797640" cy="11779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000" spc="-1" strike="noStrike">
                  <a:solidFill>
                    <a:srgbClr val="000000"/>
                  </a:solidFill>
                  <a:latin typeface="Arial"/>
                </a:rPr>
                <a:t>Жалпы есім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25608"/>
            <p:cNvSpPr/>
            <p:nvPr/>
          </p:nvSpPr>
          <p:spPr>
            <a:xfrm>
              <a:off x="4888080" y="3179880"/>
              <a:ext cx="3797640" cy="11779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000" spc="-1" strike="noStrike">
                  <a:solidFill>
                    <a:srgbClr val="000000"/>
                  </a:solidFill>
                  <a:latin typeface="Arial"/>
                </a:rPr>
                <a:t>Жалқы есім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25615"/>
            <p:cNvSpPr/>
            <p:nvPr/>
          </p:nvSpPr>
          <p:spPr>
            <a:xfrm>
              <a:off x="457200" y="4947120"/>
              <a:ext cx="3797640" cy="1177920"/>
            </a:xfrm>
            <a:prstGeom prst="roundRect">
              <a:avLst>
                <a:gd name="adj" fmla="val 16667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000000"/>
                  </a:solidFill>
                  <a:latin typeface="Arial"/>
                </a:rPr>
                <a:t>Мысалы: қала, өзен,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000000"/>
                  </a:solidFill>
                  <a:latin typeface="Arial"/>
                </a:rPr>
                <a:t>тау, кітап, кісі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25617"/>
            <p:cNvSpPr/>
            <p:nvPr/>
          </p:nvSpPr>
          <p:spPr>
            <a:xfrm>
              <a:off x="4888080" y="4947120"/>
              <a:ext cx="3797640" cy="1177920"/>
            </a:xfrm>
            <a:prstGeom prst="roundRect">
              <a:avLst>
                <a:gd name="adj" fmla="val 16667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000000"/>
                  </a:solidFill>
                  <a:latin typeface="Arial"/>
                </a:rPr>
                <a:t>Мысалы: Алматы,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kk-KZ" sz="2500" spc="-1" strike="noStrike">
                  <a:solidFill>
                    <a:srgbClr val="000000"/>
                  </a:solidFill>
                  <a:latin typeface="Arial"/>
                </a:rPr>
                <a:t>Ертіс, Алатау, Абылай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223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Зат есі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57200" y="1341360"/>
            <a:ext cx="8228520" cy="4784040"/>
            <a:chOff x="457200" y="1341360"/>
            <a:chExt cx="8228520" cy="4784040"/>
          </a:xfrm>
        </p:grpSpPr>
        <p:cxnSp>
          <p:nvCxnSpPr>
            <p:cNvPr id="121" name="_s27665"/>
            <p:cNvCxnSpPr>
              <a:stCxn id="122" idx="0"/>
              <a:endCxn id="123" idx="2"/>
            </p:cNvCxnSpPr>
            <p:nvPr/>
          </p:nvCxnSpPr>
          <p:spPr>
            <a:xfrm flipV="1">
              <a:off x="6786720" y="4330440"/>
              <a:ext cx="4680" cy="598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4" name="_s27663"/>
            <p:cNvCxnSpPr>
              <a:stCxn id="125" idx="0"/>
              <a:endCxn id="126" idx="2"/>
            </p:cNvCxnSpPr>
            <p:nvPr/>
          </p:nvCxnSpPr>
          <p:spPr>
            <a:xfrm flipV="1">
              <a:off x="2355480" y="4330440"/>
              <a:ext cx="4680" cy="598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7" name="_s27659"/>
            <p:cNvCxnSpPr>
              <a:stCxn id="123" idx="0"/>
              <a:endCxn id="128" idx="2"/>
            </p:cNvCxnSpPr>
            <p:nvPr/>
          </p:nvCxnSpPr>
          <p:spPr>
            <a:xfrm flipV="1" rot="16200000">
              <a:off x="5379120" y="1727640"/>
              <a:ext cx="598680" cy="2216160"/>
            </a:xfrm>
            <a:prstGeom prst="bentConnector3">
              <a:avLst>
                <a:gd name="adj1" fmla="val 202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9" name="_s27658"/>
            <p:cNvCxnSpPr>
              <a:stCxn id="126" idx="0"/>
              <a:endCxn id="128" idx="2"/>
            </p:cNvCxnSpPr>
            <p:nvPr/>
          </p:nvCxnSpPr>
          <p:spPr>
            <a:xfrm flipH="1" flipV="1" rot="5400000">
              <a:off x="3164040" y="1728360"/>
              <a:ext cx="598680" cy="2215440"/>
            </a:xfrm>
            <a:prstGeom prst="bentConnector3">
              <a:avLst>
                <a:gd name="adj1" fmla="val 202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8" name="_s27654"/>
            <p:cNvSpPr/>
            <p:nvPr/>
          </p:nvSpPr>
          <p:spPr>
            <a:xfrm>
              <a:off x="2671920" y="1341360"/>
              <a:ext cx="3797640" cy="11959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100" spc="-1" strike="noStrike">
                  <a:solidFill>
                    <a:srgbClr val="000000"/>
                  </a:solidFill>
                  <a:latin typeface="Arial"/>
                </a:rPr>
                <a:t>Мағынасына қарай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27655"/>
            <p:cNvSpPr/>
            <p:nvPr/>
          </p:nvSpPr>
          <p:spPr>
            <a:xfrm>
              <a:off x="457200" y="3135240"/>
              <a:ext cx="3797640" cy="119592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100" spc="-1" strike="noStrike">
                  <a:solidFill>
                    <a:srgbClr val="000000"/>
                  </a:solidFill>
                  <a:latin typeface="Arial"/>
                </a:rPr>
                <a:t>Деректі зат есім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27656"/>
            <p:cNvSpPr/>
            <p:nvPr/>
          </p:nvSpPr>
          <p:spPr>
            <a:xfrm>
              <a:off x="4888080" y="3135240"/>
              <a:ext cx="3797640" cy="119592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100" spc="-1" strike="noStrike">
                  <a:solidFill>
                    <a:srgbClr val="000000"/>
                  </a:solidFill>
                  <a:latin typeface="Arial"/>
                </a:rPr>
                <a:t>Дерексіз зат есім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27662"/>
            <p:cNvSpPr/>
            <p:nvPr/>
          </p:nvSpPr>
          <p:spPr>
            <a:xfrm>
              <a:off x="457200" y="4929480"/>
              <a:ext cx="3797640" cy="1195920"/>
            </a:xfrm>
            <a:prstGeom prst="roundRect">
              <a:avLst>
                <a:gd name="adj" fmla="val 16667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000000"/>
                  </a:solidFill>
                  <a:latin typeface="Arial"/>
                </a:rPr>
                <a:t>Көзбен көріп, қолмен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000000"/>
                  </a:solidFill>
                  <a:latin typeface="Arial"/>
                </a:rPr>
                <a:t>ұстауғ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kk-KZ" sz="2200" spc="-1" strike="noStrike">
                  <a:solidFill>
                    <a:srgbClr val="000000"/>
                  </a:solidFill>
                  <a:latin typeface="Arial"/>
                </a:rPr>
                <a:t>болатын заттардың атауы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27664"/>
            <p:cNvSpPr/>
            <p:nvPr/>
          </p:nvSpPr>
          <p:spPr>
            <a:xfrm>
              <a:off x="4888080" y="4929480"/>
              <a:ext cx="3797640" cy="1195920"/>
            </a:xfrm>
            <a:prstGeom prst="roundRect">
              <a:avLst>
                <a:gd name="adj" fmla="val 16667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Көзбен көріп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қолмен ұстауға келмейтін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тек оймен, ақылме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ғана сезіп білетін ұғымның атау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Зат есі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57200" y="1341360"/>
            <a:ext cx="8228520" cy="4784040"/>
            <a:chOff x="457200" y="1341360"/>
            <a:chExt cx="8228520" cy="4784040"/>
          </a:xfrm>
        </p:grpSpPr>
        <p:cxnSp>
          <p:nvCxnSpPr>
            <p:cNvPr id="132" name="_s51205"/>
            <p:cNvCxnSpPr>
              <a:stCxn id="133" idx="0"/>
              <a:endCxn id="134" idx="2"/>
            </p:cNvCxnSpPr>
            <p:nvPr/>
          </p:nvCxnSpPr>
          <p:spPr>
            <a:xfrm flipV="1">
              <a:off x="6786720" y="4330440"/>
              <a:ext cx="4680" cy="598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5" name="_s51206"/>
            <p:cNvCxnSpPr>
              <a:stCxn id="136" idx="0"/>
              <a:endCxn id="137" idx="2"/>
            </p:cNvCxnSpPr>
            <p:nvPr/>
          </p:nvCxnSpPr>
          <p:spPr>
            <a:xfrm flipV="1">
              <a:off x="2355480" y="4330440"/>
              <a:ext cx="4680" cy="598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8" name="_s51207"/>
            <p:cNvCxnSpPr>
              <a:stCxn id="134" idx="0"/>
              <a:endCxn id="139" idx="2"/>
            </p:cNvCxnSpPr>
            <p:nvPr/>
          </p:nvCxnSpPr>
          <p:spPr>
            <a:xfrm flipV="1" rot="16200000">
              <a:off x="5379120" y="1727640"/>
              <a:ext cx="598680" cy="2216160"/>
            </a:xfrm>
            <a:prstGeom prst="bentConnector3">
              <a:avLst>
                <a:gd name="adj1" fmla="val 202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51208"/>
            <p:cNvCxnSpPr>
              <a:stCxn id="137" idx="0"/>
              <a:endCxn id="139" idx="2"/>
            </p:cNvCxnSpPr>
            <p:nvPr/>
          </p:nvCxnSpPr>
          <p:spPr>
            <a:xfrm flipH="1" flipV="1" rot="5400000">
              <a:off x="3164040" y="1728360"/>
              <a:ext cx="598680" cy="2215440"/>
            </a:xfrm>
            <a:prstGeom prst="bentConnector3">
              <a:avLst>
                <a:gd name="adj1" fmla="val 202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9" name="_s51209"/>
            <p:cNvSpPr/>
            <p:nvPr/>
          </p:nvSpPr>
          <p:spPr>
            <a:xfrm>
              <a:off x="2671920" y="1341360"/>
              <a:ext cx="3797640" cy="11959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100" spc="-1" strike="noStrike">
                  <a:solidFill>
                    <a:srgbClr val="000000"/>
                  </a:solidFill>
                  <a:latin typeface="Arial"/>
                </a:rPr>
                <a:t>Тұлғасына қарай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51210"/>
            <p:cNvSpPr/>
            <p:nvPr/>
          </p:nvSpPr>
          <p:spPr>
            <a:xfrm>
              <a:off x="457200" y="3135240"/>
              <a:ext cx="3797640" cy="119592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100" spc="-1" strike="noStrike">
                  <a:solidFill>
                    <a:srgbClr val="000000"/>
                  </a:solidFill>
                  <a:latin typeface="Arial"/>
                </a:rPr>
                <a:t>Негізгі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51211"/>
            <p:cNvSpPr/>
            <p:nvPr/>
          </p:nvSpPr>
          <p:spPr>
            <a:xfrm>
              <a:off x="4888080" y="3135240"/>
              <a:ext cx="3797640" cy="119592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100" spc="-1" strike="noStrike">
                  <a:solidFill>
                    <a:srgbClr val="000000"/>
                  </a:solidFill>
                  <a:latin typeface="Arial"/>
                </a:rPr>
                <a:t>Туынды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51212"/>
            <p:cNvSpPr/>
            <p:nvPr/>
          </p:nvSpPr>
          <p:spPr>
            <a:xfrm>
              <a:off x="457200" y="4929480"/>
              <a:ext cx="3797640" cy="1195920"/>
            </a:xfrm>
            <a:prstGeom prst="roundRect">
              <a:avLst>
                <a:gd name="adj" fmla="val 16667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000000"/>
                  </a:solidFill>
                  <a:latin typeface="Arial"/>
                </a:rPr>
                <a:t>Жер, су, қала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51213"/>
            <p:cNvSpPr/>
            <p:nvPr/>
          </p:nvSpPr>
          <p:spPr>
            <a:xfrm>
              <a:off x="4888080" y="4929480"/>
              <a:ext cx="3797640" cy="1195920"/>
            </a:xfrm>
            <a:prstGeom prst="roundRect">
              <a:avLst>
                <a:gd name="adj" fmla="val 16667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оқушы, айтыс, білім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771640" y="836640"/>
            <a:ext cx="3600720" cy="574560"/>
          </a:xfrm>
          <a:custGeom>
            <a:avLst/>
            <a:gdLst>
              <a:gd name="textAreaLeft" fmla="*/ 900000 w 3600720"/>
              <a:gd name="textAreaRight" fmla="*/ 2700720 w 3600720"/>
              <a:gd name="textAreaTop" fmla="*/ 71640 h 574560"/>
              <a:gd name="textAreaBottom" fmla="*/ 574920 h 57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3366ff"/>
              </a:gs>
              <a:gs pos="100000">
                <a:srgbClr val="ff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067640" y="982800"/>
            <a:ext cx="10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imes New Roman"/>
              </a:rPr>
              <a:t>Зат есі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40360" y="2637000"/>
            <a:ext cx="865080" cy="720720"/>
          </a:xfrm>
          <a:prstGeom prst="ellipse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141300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300720" y="1125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076720" y="2708280"/>
            <a:ext cx="719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32360" y="3213000"/>
            <a:ext cx="17272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88000" y="3357720"/>
            <a:ext cx="79200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492360" y="3357720"/>
            <a:ext cx="71928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556000" y="3141720"/>
            <a:ext cx="151128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3348000" y="2852640"/>
            <a:ext cx="71928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2555640" y="1052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7020000" y="2492280"/>
            <a:ext cx="341280" cy="3016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556000" y="4724280"/>
            <a:ext cx="1584360" cy="1081080"/>
          </a:xfrm>
          <a:custGeom>
            <a:avLst/>
            <a:gdLst>
              <a:gd name="textAreaLeft" fmla="*/ 361440 w 1584360"/>
              <a:gd name="textAreaRight" fmla="*/ 1222920 w 1584360"/>
              <a:gd name="textAreaTop" fmla="*/ 246600 h 1081080"/>
              <a:gd name="textAreaBottom" fmla="*/ 8344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19240" y="5013360"/>
            <a:ext cx="825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Жалп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88000" y="3573360"/>
            <a:ext cx="2305080" cy="1081080"/>
          </a:xfrm>
          <a:custGeom>
            <a:avLst/>
            <a:gdLst>
              <a:gd name="textAreaLeft" fmla="*/ 525960 w 2305080"/>
              <a:gd name="textAreaRight" fmla="*/ 1779120 w 2305080"/>
              <a:gd name="textAreaTop" fmla="*/ 246600 h 1081080"/>
              <a:gd name="textAreaBottom" fmla="*/ 8344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76360" y="2133720"/>
            <a:ext cx="1584360" cy="1081080"/>
          </a:xfrm>
          <a:custGeom>
            <a:avLst/>
            <a:gdLst>
              <a:gd name="textAreaLeft" fmla="*/ 361440 w 1584360"/>
              <a:gd name="textAreaRight" fmla="*/ 1222920 w 1584360"/>
              <a:gd name="textAreaTop" fmla="*/ 246600 h 1081080"/>
              <a:gd name="textAreaBottom" fmla="*/ 8344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5640" y="3429000"/>
            <a:ext cx="1584360" cy="1081080"/>
          </a:xfrm>
          <a:custGeom>
            <a:avLst/>
            <a:gdLst>
              <a:gd name="textAreaLeft" fmla="*/ 361440 w 1584360"/>
              <a:gd name="textAreaRight" fmla="*/ 1222920 w 1584360"/>
              <a:gd name="textAreaTop" fmla="*/ 246600 h 1081080"/>
              <a:gd name="textAreaBottom" fmla="*/ 8344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59280" y="4581360"/>
            <a:ext cx="1584360" cy="1081080"/>
          </a:xfrm>
          <a:custGeom>
            <a:avLst/>
            <a:gdLst>
              <a:gd name="textAreaLeft" fmla="*/ 361440 w 1584360"/>
              <a:gd name="textAreaRight" fmla="*/ 1222920 w 1584360"/>
              <a:gd name="textAreaTop" fmla="*/ 246600 h 1081080"/>
              <a:gd name="textAreaBottom" fmla="*/ 8344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223240" y="4869000"/>
            <a:ext cx="81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Жалқ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74520" y="37162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Ғаламз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(не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66520" y="2349360"/>
            <a:ext cx="996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Адамз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(кім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023960" y="3789360"/>
            <a:ext cx="94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Дерексі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(нақсыз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867280" y="2205000"/>
            <a:ext cx="2305080" cy="1081080"/>
          </a:xfrm>
          <a:custGeom>
            <a:avLst/>
            <a:gdLst>
              <a:gd name="textAreaLeft" fmla="*/ 525960 w 2305080"/>
              <a:gd name="textAreaRight" fmla="*/ 1779120 w 2305080"/>
              <a:gd name="textAreaTop" fmla="*/ 246600 h 1081080"/>
              <a:gd name="textAreaBottom" fmla="*/ 8344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4000" y="549360"/>
            <a:ext cx="2089080" cy="1081080"/>
          </a:xfrm>
          <a:custGeom>
            <a:avLst/>
            <a:gdLst>
              <a:gd name="textAreaLeft" fmla="*/ 476640 w 2089080"/>
              <a:gd name="textAreaRight" fmla="*/ 1612440 w 2089080"/>
              <a:gd name="textAreaTop" fmla="*/ 246600 h 1081080"/>
              <a:gd name="textAreaBottom" fmla="*/ 8344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97160" y="789120"/>
            <a:ext cx="1758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Заттың атауы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білдіред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60680" y="2492280"/>
            <a:ext cx="92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Дерек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(нақты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7093080" y="2492280"/>
            <a:ext cx="341280" cy="3016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7451640" y="2492280"/>
            <a:ext cx="341280" cy="3016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7956720" y="3865680"/>
            <a:ext cx="360360" cy="1537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8172360" y="4076640"/>
            <a:ext cx="328680" cy="1396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6804000" y="549360"/>
            <a:ext cx="2089080" cy="1081080"/>
          </a:xfrm>
          <a:custGeom>
            <a:avLst/>
            <a:gdLst>
              <a:gd name="textAreaLeft" fmla="*/ 476640 w 2089080"/>
              <a:gd name="textAreaRight" fmla="*/ 1612440 w 2089080"/>
              <a:gd name="textAreaTop" fmla="*/ 246600 h 1081080"/>
              <a:gd name="textAreaBottom" fmla="*/ 8344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284960" y="722160"/>
            <a:ext cx="12474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ffffff"/>
                </a:solidFill>
                <a:latin typeface="Times New Roman"/>
              </a:rPr>
              <a:t>Сұрақтар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ffffff"/>
                </a:solidFill>
                <a:latin typeface="Times New Roman"/>
              </a:rPr>
              <a:t>Кім? Кімдер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Не?</a:t>
            </a:r>
            <a:r>
              <a:rPr b="1" i="1" lang="kk-KZ" sz="1400" spc="-1" strike="noStrike">
                <a:solidFill>
                  <a:srgbClr val="ffffff"/>
                </a:solidFill>
                <a:latin typeface="Times New Roman"/>
              </a:rPr>
              <a:t> Нелер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14:08:25Z</dcterms:created>
  <dc:creator>Асель</dc:creator>
  <dc:description/>
  <dc:language>en-US</dc:language>
  <cp:lastModifiedBy>User</cp:lastModifiedBy>
  <dcterms:modified xsi:type="dcterms:W3CDTF">2013-02-06T18:16:24Z</dcterms:modified>
  <cp:revision>53</cp:revision>
  <dc:subject/>
  <dc:title>Пєндік олимпиад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e060000000000010250500207f7000400038000</vt:lpwstr>
  </property>
</Properties>
</file>